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79F-C51D-47A6-88C8-A7B880FE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4C5-16D2-4209-8516-B6C987FD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3C6-1660-492E-9621-F4CEC543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8D6-ECB1-4AEC-AFD5-79001C05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A36-B8D7-45C6-9A72-656662DA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A1E-DC05-4F31-88FE-5F58D37B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573-7F17-4DCD-B912-731CB2A6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F93-2AD5-4FFE-870A-DE09302E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EEA-71AB-4871-8BC8-1882E443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B96-A443-4D2A-A664-FFCAED70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7AC-D9BD-4886-ADBA-BDA2D160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AC5-5996-478A-94A8-858F336B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B60E-4BE5-4481-B658-9921ECA1FB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alf-ca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ohn Ag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224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alf-ca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h r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fensive term to denote a person whose parents are of different r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ibbean expletive meaning ‘my ars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4T09:01:24Z</dcterms:modified>
  <cp:revision>52</cp:revision>
  <dc:subject/>
  <dc:title>La Belle Dame Sans Merci</dc:title>
</cp:coreProperties>
</file>